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5839-989B-4BDD-9044-79837ABE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2EF-AAED-4B15-9710-5F0B2DA1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3E75-77AA-4B8C-8BC4-B301D453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E983-8C99-4553-8EE8-F37AF45F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619-64B8-4470-B62E-2FD6A8E7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747-D59E-4174-84D9-27A68A228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0DD-E7AA-464E-B194-452E1C37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9B71-A0DD-410D-8B2B-174FDCDD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728-B3D8-4ACA-A8A4-D8C9516D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7D92-EEB0-4230-8075-0843D673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E6D-4A1F-4D49-A330-D76B856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B3F-A784-44A1-8E71-6973AA1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6340-BCB2-48E0-912C-D2E39F44D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K cel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 21,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97000" y="692280"/>
            <a:ext cx="854856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920" y="781200"/>
            <a:ext cx="837072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4572000" cy="41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95680" y="685800"/>
            <a:ext cx="416556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806560" y="1441440"/>
            <a:ext cx="353088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9760" y="584280"/>
            <a:ext cx="86630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8217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14:29:08Z</dcterms:created>
  <dc:creator>Penelope Morel</dc:creator>
  <dc:description/>
  <dc:language>en-US</dc:language>
  <cp:lastModifiedBy>Penelope Morel</cp:lastModifiedBy>
  <dcterms:modified xsi:type="dcterms:W3CDTF">2008-08-21T14:39:21Z</dcterms:modified>
  <cp:revision>1</cp:revision>
  <dc:subject/>
  <dc:title>NK cell ontology</dc:title>
</cp:coreProperties>
</file>